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1FD-5ED9-446F-AF53-B0CB4ECE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81C-BCB8-4646-8281-22F84944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38D-937C-488D-A53C-D9C84285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75A-299A-4DFE-AC6C-E21637D7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781-89D8-400E-B386-F1326D08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88C-0719-4403-BE51-660D166D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20A-C6DE-4624-A60D-7FE0A0FF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352-6FA9-4C05-9ADB-2B09750E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63E-16C4-4816-BCF9-7579E512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F38-17E0-46CA-A1C6-EB9880DE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530-E856-4B62-B624-6C327D7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0A5-0E2A-4AC8-B58E-2492A0F1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1A96-148F-4E62-90A1-2CD1061FCF0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The Car Indust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ery good example of an industrial system is the car manufacturing industry, like the Rover factory at Longbridge in Birmingh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ctually more of an assembly industry as most of the parts are made elsewhere and then brought to Longbridge to be put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www.ssrfanatic.com/forum/attachments/f6/39324d1192931084-who-owns-who-global-motor-industry-who_owns_who.gif"/>
          <p:cNvPicPr/>
          <p:nvPr/>
        </p:nvPicPr>
        <p:blipFill>
          <a:blip r:embed="rId1"/>
          <a:stretch/>
        </p:blipFill>
        <p:spPr>
          <a:xfrm>
            <a:off x="0" y="620640"/>
            <a:ext cx="91425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3:06:00Z</dcterms:created>
  <dc:creator>Dell_02</dc:creator>
  <dc:description/>
  <dc:language>en-US</dc:language>
  <cp:lastModifiedBy>Dell_02</cp:lastModifiedBy>
  <dcterms:modified xsi:type="dcterms:W3CDTF">2011-01-27T03:13:25Z</dcterms:modified>
  <cp:revision>1</cp:revision>
  <dc:subject/>
  <dc:title>The Car Industry</dc:title>
</cp:coreProperties>
</file>